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21.gif" ContentType="image/gif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690D-3990-4A9E-83FA-782133FB2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D267-CE64-4469-B305-3E7D7E9C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B8E1-B7E2-4DBD-8600-67AC27D5E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6032-3803-44C0-8F97-D74A0EDF1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3434-DD02-4F63-B467-DAE47AC1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08AC-32F6-4284-9C55-8E56C016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F3AF-EAD1-408E-893B-8EF879AE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1276-3B78-4D25-B2A5-1375B02B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260C-BD81-4D6E-B61B-C7F8E096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84C7-C7C5-42B5-A07D-DE14552E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81A3-8182-4DA4-B5D4-858ACB92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2FD0-BC7A-4677-8102-855D8D3B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5611-FD55-4356-8592-F2D7735574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otvoyna.ru/voina.htm" TargetMode="External"/><Relationship Id="rId2" Type="http://schemas.openxmlformats.org/officeDocument/2006/relationships/hyperlink" Target="http://stat17.privet.ru/lr/091351af80f2cbd5254237b67c110c66" TargetMode="External"/><Relationship Id="rId3" Type="http://schemas.openxmlformats.org/officeDocument/2006/relationships/hyperlink" Target="http://im7-tub.yandex.net/i?id=30045746-22-24" TargetMode="External"/><Relationship Id="rId4" Type="http://schemas.openxmlformats.org/officeDocument/2006/relationships/hyperlink" Target="http://backup.flot.com/upload/blog/267/yungi11_8.jpg" TargetMode="External"/><Relationship Id="rId5" Type="http://schemas.openxmlformats.org/officeDocument/2006/relationships/hyperlink" Target="http://alter.gorod.tomsk.ru/uploads/34629/1274034986/3.jpg" TargetMode="External"/><Relationship Id="rId6" Type="http://schemas.openxmlformats.org/officeDocument/2006/relationships/hyperlink" Target="http://s48.radikal.ru/i119/1010/5e/31c96a5b2231.jpg" TargetMode="External"/><Relationship Id="rId7" Type="http://schemas.openxmlformats.org/officeDocument/2006/relationships/hyperlink" Target="http://s007.radikal.ru/i300/1011/51/7d17f075434d.jpg" TargetMode="External"/><Relationship Id="rId8" Type="http://schemas.openxmlformats.org/officeDocument/2006/relationships/hyperlink" Target="http://www.davno.ru/posters/1942/img/poster-1942h.jpg" TargetMode="External"/><Relationship Id="rId9" Type="http://schemas.openxmlformats.org/officeDocument/2006/relationships/hyperlink" Target="http://www.vkinobudke.ru/uploads/posts/2010-11/1289407185_12_1.jpg" TargetMode="External"/><Relationship Id="rId10" Type="http://schemas.openxmlformats.org/officeDocument/2006/relationships/hyperlink" Target="http://young.rzd.ru/dbmm/images/41/4080/1196513" TargetMode="External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2/151/2009151/f_9835168.jpg" TargetMode="External"/><Relationship Id="rId2" Type="http://schemas.openxmlformats.org/officeDocument/2006/relationships/hyperlink" Target="http://static.diary.ru/userdir/2/7/7/5/277573/41356204.jpg" TargetMode="External"/><Relationship Id="rId3" Type="http://schemas.openxmlformats.org/officeDocument/2006/relationships/hyperlink" Target="http://s51.radikal.ru/i131/1008/00/efaf29245e9c.jpg" TargetMode="External"/><Relationship Id="rId4" Type="http://schemas.openxmlformats.org/officeDocument/2006/relationships/hyperlink" Target="http://img0.liveinternet.ru/images/attach/c/2/65/396/65396297_1287263467_okop.jpg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еликая Отечественная война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1941 - 19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5580000" y="5229360"/>
            <a:ext cx="356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ороздина Олеся Юрьевн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ОУБОУ СОШ №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. Совет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91351af80f2cbd5254237b67c110c66"/>
          <p:cNvPicPr/>
          <p:nvPr/>
        </p:nvPicPr>
        <p:blipFill>
          <a:blip r:embed="rId1"/>
          <a:stretch/>
        </p:blipFill>
        <p:spPr>
          <a:xfrm>
            <a:off x="250920" y="2639880"/>
            <a:ext cx="5184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2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4229280" cy="6048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"/>
          <p:cNvPicPr/>
          <p:nvPr/>
        </p:nvPicPr>
        <p:blipFill>
          <a:blip r:embed="rId2"/>
          <a:stretch/>
        </p:blipFill>
        <p:spPr>
          <a:xfrm>
            <a:off x="4716360" y="333360"/>
            <a:ext cx="41896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395280" y="4173480"/>
            <a:ext cx="3456000" cy="2279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4284720" y="333360"/>
            <a:ext cx="45972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0728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ень Победы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806436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rajon_gerdevka2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2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Минута молч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ни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рез века, через года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ни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тех, кто уже не придет никогда,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ни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ю ценою завоевано счастье, – заклинаю,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ни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Р. Рождествен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сыл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http://www.otvoyna.ru/voina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otvoyna.ru/partiz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чный огонь - </a:t>
            </a: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http://stat17.privet.ru/lr/091351af80f2cbd5254237b67c110c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окада Ленинграда -  </a:t>
            </a: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  <a:hlinkClick r:id="rId3"/>
              </a:rPr>
              <a:t>http://im7-tub.yandex.net/i?id=30045746-22-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лёты - </a:t>
            </a: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  <a:hlinkClick r:id="rId4"/>
              </a:rPr>
              <a:t>http://backup.flot.com/upload/blog/267/yungi11_8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ылу - </a:t>
            </a: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  <a:hlinkClick r:id="rId5"/>
              </a:rPr>
              <a:t>http://alter.gorod.tomsk.ru/uploads/34629/1274034986/3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тизаны - </a:t>
            </a: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  <a:hlinkClick r:id="rId6"/>
              </a:rPr>
              <a:t>http://s48.radikal.ru/i119/1010/5e/31c96a5b2231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кат «Всё для фронта, всё для победы!» - </a:t>
            </a: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  <a:hlinkClick r:id="rId7"/>
              </a:rPr>
              <a:t>http://s007.radikal.ru/i300/1011/51/7d17f075434d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кат «Смерть немецким оккупантам» - </a:t>
            </a: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  <a:hlinkClick r:id="rId8"/>
              </a:rPr>
              <a:t>http://www.davno.ru/posters/1942/img/poster-1942h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рестская крепость - </a:t>
            </a: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  <a:hlinkClick r:id="rId9"/>
              </a:rPr>
              <a:t>http://www.vkinobudke.ru/uploads/posts/2010-11/1289407185_12_1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шисты и советские женщины и дети -  - </a:t>
            </a: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  <a:hlinkClick r:id="rId10"/>
              </a:rPr>
              <a:t>http://young.rzd.ru/dbmm/images/41/4080/11965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сыл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й на реке - </a:t>
            </a:r>
            <a:r>
              <a:rPr b="0" lang="ru-RU" sz="18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http://img1.liveinternet.ru/images/foto/b/2/151/2009151/f_9835168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нковое сражение - </a:t>
            </a:r>
            <a:r>
              <a:rPr b="0" lang="ru-RU" sz="18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http://static.diary.ru/userdir/2/7/7/5/277573/41356204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мецкие офицеры - </a:t>
            </a:r>
            <a:r>
              <a:rPr b="0" lang="ru-RU" sz="1800" spc="-1" strike="noStrike" u="sng">
                <a:solidFill>
                  <a:srgbClr val="3333cc"/>
                </a:solidFill>
                <a:uFillTx/>
                <a:latin typeface="Arial"/>
                <a:hlinkClick r:id="rId3"/>
              </a:rPr>
              <a:t>http://s51.radikal.ru/i131/1008/00/efaf29245e9c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тва за Смоленск, 1941 год - </a:t>
            </a:r>
            <a:r>
              <a:rPr b="0" lang="ru-RU" sz="1800" spc="-1" strike="noStrike" u="sng">
                <a:solidFill>
                  <a:srgbClr val="3333cc"/>
                </a:solidFill>
                <a:uFillTx/>
                <a:latin typeface="Arial"/>
                <a:hlinkClick r:id="rId4"/>
              </a:rPr>
              <a:t>http://img0.liveinternet.ru/images/attach/c/2/65/396/65396297_1287263467_okop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линградская битва - http://www.print.spb.ru/img/wysiwyg/orders/kutuzov/stalingrad/594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сьмо солдата - http://sakhvesti.ru/p/gubved_04022010143204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сьмо - http://objb.altapress.ru/picture/cram_in/540/26055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рлин - http://www.graphiste-webdesigner.fr/abecedaire/diaporamas/images/p/photos/drapeau_russe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нь Победы - http://photobucket.com/albums/o257/Lesnoy/victory_day_05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имированная открытка «9МАЯ»  - http://gifzona.ru/i/9/9_may_18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468360" y="0"/>
            <a:ext cx="83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3" descr=""/>
          <p:cNvPicPr/>
          <p:nvPr/>
        </p:nvPicPr>
        <p:blipFill>
          <a:blip r:embed="rId1"/>
          <a:stretch/>
        </p:blipFill>
        <p:spPr>
          <a:xfrm>
            <a:off x="179280" y="-33480"/>
            <a:ext cx="882036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3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0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59:21Z</dcterms:created>
  <dc:creator>Admin</dc:creator>
  <dc:description/>
  <dc:language>en-US</dc:language>
  <cp:lastModifiedBy>B660</cp:lastModifiedBy>
  <dcterms:modified xsi:type="dcterms:W3CDTF">2025-12-06T08:20:14Z</dcterms:modified>
  <cp:revision>64</cp:revision>
  <dc:subject/>
  <dc:title>Слайд 1</dc:title>
</cp:coreProperties>
</file>